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2378-2AB7-40FF-BD0D-EBD0DB0123D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0E0F-988A-4C2C-B678-AC706FE3D38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A0E8-9E81-450A-96C2-A07434E5450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41E-DCC0-4A51-A490-56C4E049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4E56-B54B-4C7E-866C-B0AF1ED3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CC61-458F-4B23-AB40-D233C01D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E4D2-4EB9-4BDD-8762-028C9B62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882E-8A82-49C4-B20B-8A13128C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9352-CC03-4114-A91C-A9D551EE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6728-659A-4E13-8443-1315C821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D5D9-9838-48B4-AC3F-693C75BE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EAED-7221-4ADE-8897-CDADA2D7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FFCE-82E5-4867-8966-D93EA7C7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8EF8-B7F6-4A99-9ED5-FA6888AD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07D9-BE16-4061-8FFD-9804BE26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0189-5E68-4450-A1AA-2718FD5C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90AA-3BB6-43BE-A9F6-57A99725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38FA-26E4-47AB-A4AB-8D5373FC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1873-92BB-42BD-A846-06BAD439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0E22-B436-4F5A-BE83-312B9A13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EFBA-20EF-45CA-BCB4-D5B4882F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4FC3-27EA-4EC4-9765-078016CA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8189-E4FA-4A3E-AA36-96A59AAD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9A5A-C795-49D1-8696-B7101E50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A4C1-B9AC-4099-AAF7-09BBF24E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9D51-A4EB-4E10-8240-4049C309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3E77-C148-47A6-9220-762998D7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3A51-2D16-4B5A-B379-6AA51AF84FD0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6982-1DD4-4FB0-A4B1-E9F56B9A3C89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contributionstoscience.wikispaces.com/Thomas+Edison+and+the+Lightbulb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zachod.pl/radio-zachod/serwis-informacyjny/kraj/dzwiekowa-tablica-mendelejewa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fuw.edu.pl/~neutrina/promieniowanie.html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upload.wikimedia.org/wikipedia/commons/3/3c/Albert_Edelfelt_-_Louis_Pasteur_-_1885.jpg" TargetMode="External"/><Relationship Id="rId3" Type="http://schemas.openxmlformats.org/officeDocument/2006/relationships/hyperlink" Target="http://upload.wikimedia.org/wikipedia/commons/3/3c/Albert_Edelfelt_-_Louis_Pasteur_-_1885.jpg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ciekawostkihistoryczne.pl/2011/07/27/jak-przechytrzyc-smierc-xix-wieczny-przyrzad-do-ozywiania-zmarlych/" TargetMode="External"/><Relationship Id="rId3" Type="http://schemas.openxmlformats.org/officeDocument/2006/relationships/hyperlink" Target="http://ciekawostkihistoryczne.pl/2011/07/27/jak-przechytrzyc-smierc-xix-wieczny-przyrzad-do-ozywiania-zmarlych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heterodoxology.files.wordpress.com/2010/03/auguste_comte.jpg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pl.wikipedia.org/wiki/Plik:Demologos1814.jpg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upload.wikimedia.org/wikipedia/commons/3/3f/Stephenson%27s_Rocket_drawing.jpg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gadzetomania.pl/2010/12/22/wynalazki-xix-wieku-bez-ktorych-nie-byloby-gadzetomanii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ostęp rozwiąże wszystkie problemy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artosz Rzoń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nalazki techn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Żarówka, elektrow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ierwszą elektrownię wybudował Thomas Edison, co zapoczątkowało szybki proces elektryfikacj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tanach Zjednoczon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877 r. wynalazł fonograf, a w 1897 r. żarówk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Users\Bartek\Downloads\edison.jpg"/>
          <p:cNvPicPr/>
          <p:nvPr/>
        </p:nvPicPr>
        <p:blipFill>
          <a:blip r:embed="rId1"/>
          <a:stretch/>
        </p:blipFill>
        <p:spPr>
          <a:xfrm>
            <a:off x="5003640" y="2421000"/>
            <a:ext cx="3659400" cy="2744640"/>
          </a:xfrm>
          <a:prstGeom prst="rect">
            <a:avLst/>
          </a:prstGeom>
          <a:ln w="0">
            <a:noFill/>
          </a:ln>
        </p:spPr>
      </p:pic>
      <p:sp>
        <p:nvSpPr>
          <p:cNvPr id="132" name="pole tekstowe 7"/>
          <p:cNvSpPr/>
          <p:nvPr/>
        </p:nvSpPr>
        <p:spPr>
          <a:xfrm>
            <a:off x="4859280" y="5300640"/>
            <a:ext cx="39686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6. Edis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ontributionstoscience.wikispaces.com/Thomas+Edison+and+the+Lightbulb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krycia chem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Tablica pierwiastkó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869 r. Dymitr Mendelejew  sklasyfikował pierwiastki chemicz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Users\Bartek\Downloads\tablica_mendelejewa.jpg"/>
          <p:cNvPicPr/>
          <p:nvPr/>
        </p:nvPicPr>
        <p:blipFill>
          <a:blip r:embed="rId1"/>
          <a:stretch/>
        </p:blipFill>
        <p:spPr>
          <a:xfrm>
            <a:off x="4643280" y="2421000"/>
            <a:ext cx="4042080" cy="2442960"/>
          </a:xfrm>
          <a:prstGeom prst="rect">
            <a:avLst/>
          </a:prstGeom>
          <a:ln w="0">
            <a:noFill/>
          </a:ln>
        </p:spPr>
      </p:pic>
      <p:sp>
        <p:nvSpPr>
          <p:cNvPr id="137" name="pole tekstowe 7"/>
          <p:cNvSpPr/>
          <p:nvPr/>
        </p:nvSpPr>
        <p:spPr>
          <a:xfrm>
            <a:off x="4679280" y="5157720"/>
            <a:ext cx="4490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7. Tablica Mendelejew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zachod.pl/radio-zachod/serwis-informacyjny/kraj/dzwiekowa-tablica-mendelejewa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krycia chem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omieniotwórczoś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2174760"/>
            <a:ext cx="42591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jawisko promieniotwórczości odkrył  Henri Becquerel 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 1896 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898 r. Maria Curie-Skłodowska wraz z mężem odkryli polon i rad (promieniotwórcze pierwiastk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C:\Users\Bartek\Downloads\Maria_Piotr_Curie.jpg"/>
          <p:cNvPicPr/>
          <p:nvPr/>
        </p:nvPicPr>
        <p:blipFill>
          <a:blip r:embed="rId1"/>
          <a:stretch/>
        </p:blipFill>
        <p:spPr>
          <a:xfrm>
            <a:off x="5219640" y="2276640"/>
            <a:ext cx="2857680" cy="3143160"/>
          </a:xfrm>
          <a:prstGeom prst="rect">
            <a:avLst/>
          </a:prstGeom>
          <a:ln w="0">
            <a:noFill/>
          </a:ln>
        </p:spPr>
      </p:pic>
      <p:sp>
        <p:nvSpPr>
          <p:cNvPr id="142" name="pole tekstowe 7"/>
          <p:cNvSpPr/>
          <p:nvPr/>
        </p:nvSpPr>
        <p:spPr>
          <a:xfrm>
            <a:off x="5171760" y="5516640"/>
            <a:ext cx="2837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8. Maria i Piotr Cur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uw.edu.pl/~neutrina/promieniowani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ozwój medycy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adania Ludwika Pasteur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Roberta Kocha nad wścieklizną i gruźlicą doprowadziły do rozwoju bakteriolog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udwik Pasteur oraz Edward Jenner odkryli szczepionki na wściekliznę i osp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ilhelm Roentgen odkrył promieniowanie X w 1895 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C:\Users\Bartek\Downloads\Louis_Pasteur_1885.jpg"/>
          <p:cNvPicPr/>
          <p:nvPr/>
        </p:nvPicPr>
        <p:blipFill>
          <a:blip r:embed="rId1"/>
          <a:stretch/>
        </p:blipFill>
        <p:spPr>
          <a:xfrm>
            <a:off x="5364000" y="1700280"/>
            <a:ext cx="3237120" cy="3936960"/>
          </a:xfrm>
          <a:prstGeom prst="rect">
            <a:avLst/>
          </a:prstGeom>
          <a:ln w="0">
            <a:noFill/>
          </a:ln>
        </p:spPr>
      </p:pic>
      <p:sp>
        <p:nvSpPr>
          <p:cNvPr id="146" name="pole tekstowe 9"/>
          <p:cNvSpPr/>
          <p:nvPr/>
        </p:nvSpPr>
        <p:spPr>
          <a:xfrm>
            <a:off x="5319720" y="5732640"/>
            <a:ext cx="348624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9. Ludwik Pasteu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upload.wikimedia.org/wikipedia/commons/3/3c/Albert_Edelfelt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-_Louis_Pasteur_-_1885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ozwój techniki budowlan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403848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ryształowy Pałac (pawilon wystawowy) wzniesiony na londyńską Wystawę Światową w 1851 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ieża Eiffla zbudowan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889 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C:\Users\Bartek\Downloads\Joseph_Paxton_pałac Kryształowy.jpg"/>
          <p:cNvPicPr/>
          <p:nvPr/>
        </p:nvPicPr>
        <p:blipFill>
          <a:blip r:embed="rId1"/>
          <a:stretch/>
        </p:blipFill>
        <p:spPr>
          <a:xfrm>
            <a:off x="5508720" y="1557360"/>
            <a:ext cx="3095640" cy="2338200"/>
          </a:xfrm>
          <a:prstGeom prst="rect">
            <a:avLst/>
          </a:prstGeom>
          <a:ln w="0">
            <a:noFill/>
          </a:ln>
        </p:spPr>
      </p:pic>
      <p:sp>
        <p:nvSpPr>
          <p:cNvPr id="150" name="pole tekstowe 5"/>
          <p:cNvSpPr/>
          <p:nvPr/>
        </p:nvSpPr>
        <p:spPr>
          <a:xfrm>
            <a:off x="5454360" y="3933720"/>
            <a:ext cx="3134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0. Pałac Kryształowy w Londyn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sztukahistorii.blogspot.com/2011/04/27-ucz-sie-zamiast-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gapic-sie-na-scian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3" descr="C:\Users\Bartek\Downloads\wieza_eiffla.jpg"/>
          <p:cNvPicPr/>
          <p:nvPr/>
        </p:nvPicPr>
        <p:blipFill>
          <a:blip r:embed="rId2"/>
          <a:stretch/>
        </p:blipFill>
        <p:spPr>
          <a:xfrm>
            <a:off x="395280" y="3860640"/>
            <a:ext cx="3967200" cy="2621160"/>
          </a:xfrm>
          <a:prstGeom prst="rect">
            <a:avLst/>
          </a:prstGeom>
          <a:ln w="0">
            <a:noFill/>
          </a:ln>
        </p:spPr>
      </p:pic>
      <p:sp>
        <p:nvSpPr>
          <p:cNvPr id="152" name="pole tekstowe 7"/>
          <p:cNvSpPr/>
          <p:nvPr/>
        </p:nvSpPr>
        <p:spPr>
          <a:xfrm>
            <a:off x="4427640" y="6021360"/>
            <a:ext cx="297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1. Etapy budowy wieży Eiffl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fotoelzbieta3.files.wordpress.com/2011/11/we1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adania geograf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ksploracja Afryki przez brytyjskich podróżników Dawida Livingstone’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Henry’ego Stanleya. Badania w dorzeczach Konga i Zambezi oraz poszukiwania źródeł Nilu doprowadziły do odkrycia nieznanych ludów afrykański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Bartek\Downloads\spotkanie_Stanleya_z_Livingstonem.jpg"/>
          <p:cNvPicPr/>
          <p:nvPr/>
        </p:nvPicPr>
        <p:blipFill>
          <a:blip r:embed="rId1"/>
          <a:stretch/>
        </p:blipFill>
        <p:spPr>
          <a:xfrm>
            <a:off x="4643280" y="1557360"/>
            <a:ext cx="4038840" cy="2833560"/>
          </a:xfrm>
          <a:prstGeom prst="rect">
            <a:avLst/>
          </a:prstGeom>
          <a:ln w="0">
            <a:noFill/>
          </a:ln>
        </p:spPr>
      </p:pic>
      <p:sp>
        <p:nvSpPr>
          <p:cNvPr id="156" name="pole tekstowe 8"/>
          <p:cNvSpPr/>
          <p:nvPr/>
        </p:nvSpPr>
        <p:spPr>
          <a:xfrm>
            <a:off x="4591080" y="4508640"/>
            <a:ext cx="36129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2. Stanley spotyka Livingstone'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yborcza.pl/1,75475,10642562,Bialo_czerwone_i_czarne.html?as=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adania geograf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różnicy docierali do niepoznanych terenów Ameryki Południowej oraz Austral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bardziej znanym badaczem kontynentu Australijskiego był polski podróżnik Edmund Strzelec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przełomie XIX i XX wieku zaczęto penetrować obszary arktyczne (pierwszym człowiekiem na biegunie południowym był Roald Amundsen, a na północnym Robert Pear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Users\Bartek\Downloads\map_of_Antactica.jpg"/>
          <p:cNvPicPr/>
          <p:nvPr/>
        </p:nvPicPr>
        <p:blipFill>
          <a:blip r:embed="rId1"/>
          <a:stretch/>
        </p:blipFill>
        <p:spPr>
          <a:xfrm>
            <a:off x="3419640" y="4292640"/>
            <a:ext cx="3454200" cy="2095560"/>
          </a:xfrm>
          <a:prstGeom prst="rect">
            <a:avLst/>
          </a:prstGeom>
          <a:ln w="0">
            <a:noFill/>
          </a:ln>
        </p:spPr>
      </p:pic>
      <p:sp>
        <p:nvSpPr>
          <p:cNvPr id="161" name="pole tekstowe 5"/>
          <p:cNvSpPr/>
          <p:nvPr/>
        </p:nvSpPr>
        <p:spPr>
          <a:xfrm>
            <a:off x="6882480" y="5732640"/>
            <a:ext cx="2151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3. Mapa Antarktydy z 1894 r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pl.wikipedia.org/wiki/Plik:1894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map_of_Antactica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eoria Ewolu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większy rozgłos w XIX w. zyskała teoria Karola Darw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badań, które prowadził wysnuł wniosek o ewolucji gatunków, na który miały wpływ zmieniające się warunki bytow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C:\Users\Bartek\Downloads\ewolucja_człowieka.jpg"/>
          <p:cNvPicPr/>
          <p:nvPr/>
        </p:nvPicPr>
        <p:blipFill>
          <a:blip r:embed="rId1"/>
          <a:stretch/>
        </p:blipFill>
        <p:spPr>
          <a:xfrm>
            <a:off x="4643280" y="2060640"/>
            <a:ext cx="4038840" cy="2423880"/>
          </a:xfrm>
          <a:prstGeom prst="rect">
            <a:avLst/>
          </a:prstGeom>
          <a:ln w="0">
            <a:noFill/>
          </a:ln>
        </p:spPr>
      </p:pic>
      <p:sp>
        <p:nvSpPr>
          <p:cNvPr id="165" name="pole tekstowe 5"/>
          <p:cNvSpPr/>
          <p:nvPr/>
        </p:nvSpPr>
        <p:spPr>
          <a:xfrm>
            <a:off x="4662000" y="4581360"/>
            <a:ext cx="2110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4. Ewolucja człowiek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nauka-o-czlowieku.blog.onet.pl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nauka była urzeczywistnieniem postęp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:\Users\Bartek\Downloads\przyrzad_do_przywracania_zycia.jpg"/>
          <p:cNvPicPr/>
          <p:nvPr/>
        </p:nvPicPr>
        <p:blipFill>
          <a:blip r:embed="rId1"/>
          <a:stretch/>
        </p:blipFill>
        <p:spPr>
          <a:xfrm>
            <a:off x="1946160" y="1557360"/>
            <a:ext cx="5251680" cy="3774960"/>
          </a:xfrm>
          <a:prstGeom prst="rect">
            <a:avLst/>
          </a:prstGeom>
          <a:ln w="0">
            <a:noFill/>
          </a:ln>
        </p:spPr>
      </p:pic>
      <p:sp>
        <p:nvSpPr>
          <p:cNvPr id="168" name="pole tekstowe 4"/>
          <p:cNvSpPr/>
          <p:nvPr/>
        </p:nvSpPr>
        <p:spPr>
          <a:xfrm>
            <a:off x="1871640" y="5445000"/>
            <a:ext cx="53276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. Przyrząd do przywracania życi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ciekawostkihistoryczne.pl/2011/07/27/jak-przechytrzyc-smierc-xix-wieczny-przyrzad-do-ozywiania-zmarlych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zostałe wynalaz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24210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ie znasz jeszcze XIX – wieczne wynalazki, które zrewolucjonizowały świa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zupełnij tabelk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łoże przemian w nauce i techn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nalazki techni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dkrycia chemi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wój medycy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wój techniki budowlan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dania geografi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oria ewoluc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nauka była urzeczywistnieniem postęp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Bartek\Downloads\przyrzad_do_przywracania_zycia.jpg"/>
          <p:cNvPicPr/>
          <p:nvPr/>
        </p:nvPicPr>
        <p:blipFill>
          <a:blip r:embed="rId1"/>
          <a:stretch/>
        </p:blipFill>
        <p:spPr>
          <a:xfrm>
            <a:off x="1946160" y="1557360"/>
            <a:ext cx="5251680" cy="3774960"/>
          </a:xfrm>
          <a:prstGeom prst="rect">
            <a:avLst/>
          </a:prstGeom>
          <a:ln w="0">
            <a:noFill/>
          </a:ln>
        </p:spPr>
      </p:pic>
      <p:sp>
        <p:nvSpPr>
          <p:cNvPr id="101" name="pole tekstowe 4"/>
          <p:cNvSpPr/>
          <p:nvPr/>
        </p:nvSpPr>
        <p:spPr>
          <a:xfrm>
            <a:off x="1896120" y="5445000"/>
            <a:ext cx="52786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. Przyrząd do przywracania życi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iekawostkihistoryczne.pl/2011/07/27/jak-przechytrzyc-smierc-xix-wieczny-przyrzad-do-ozywiania-zmarlych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łoże przemian w nauce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techn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Filozof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latach 30. XIX w. dominującą rolę zdobył nowy system myślowy, którego twórcą był Francuz August Com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C:\Users\Bartek\Downloads\auguste_comte.jpg"/>
          <p:cNvPicPr/>
          <p:nvPr/>
        </p:nvPicPr>
        <p:blipFill>
          <a:blip r:embed="rId1"/>
          <a:stretch/>
        </p:blipFill>
        <p:spPr>
          <a:xfrm>
            <a:off x="5257800" y="2174760"/>
            <a:ext cx="2627280" cy="3686400"/>
          </a:xfrm>
          <a:prstGeom prst="rect">
            <a:avLst/>
          </a:prstGeom>
          <a:ln w="0">
            <a:noFill/>
          </a:ln>
        </p:spPr>
      </p:pic>
      <p:sp>
        <p:nvSpPr>
          <p:cNvPr id="106" name="pole tekstowe 6"/>
          <p:cNvSpPr/>
          <p:nvPr/>
        </p:nvSpPr>
        <p:spPr>
          <a:xfrm>
            <a:off x="5148360" y="5919840"/>
            <a:ext cx="35478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ys 2. August Com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heterodoxology.files.wordpress.com/2010/03/auguste_comte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łoże przemian w nauce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techn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Filozofia - pozytywiz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kwestionowanie sensu dociekań metafizyczn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odne uwagi są jedynie stwierdzalne empiryczn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rzeczywiste przedmio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elem badań naukowych miało być ustalanie praw, poprzez szczegółowe obserwacje lub eksperymen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daniem nauki powinna być poprawa warunków życia społeczeństwa poprzez badania, wynalazki i rozwój przemysł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łoże przemian w nauce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techn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wój nauki i techniki wywołany był rozwojem gospodarczym i eksplozją demograficzną (rywalizacja między Anglią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 Stanami Zjednoczonym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częto stosować nowe metody badawcze (zawodowi naukowcy, specjalistyczna aparatura, opierano się na doświadczeniach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obserwacj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nalazki techn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tatek parowy Fult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807 r. Robert Fulton zbudował pierwszy statek parow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ierwsze stalowe statki pojawiły się w drugiej połowie XIX 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C:\Users\Bartek\Downloads\statek_parowy.jpg"/>
          <p:cNvPicPr/>
          <p:nvPr/>
        </p:nvPicPr>
        <p:blipFill>
          <a:blip r:embed="rId1"/>
          <a:stretch/>
        </p:blipFill>
        <p:spPr>
          <a:xfrm>
            <a:off x="4643280" y="2421000"/>
            <a:ext cx="4042080" cy="2460600"/>
          </a:xfrm>
          <a:prstGeom prst="rect">
            <a:avLst/>
          </a:prstGeom>
          <a:ln w="0">
            <a:noFill/>
          </a:ln>
        </p:spPr>
      </p:pic>
      <p:sp>
        <p:nvSpPr>
          <p:cNvPr id="117" name="pole tekstowe 10"/>
          <p:cNvSpPr/>
          <p:nvPr/>
        </p:nvSpPr>
        <p:spPr>
          <a:xfrm>
            <a:off x="4578120" y="5013360"/>
            <a:ext cx="35960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3. Pierwszy parowy statek wojenny (Stany Zjednoczone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l.wikipedia.org/wiki/Plik:Demologos1814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nalazki techn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olej żelaz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825 r. otwarto pierwszą linię kolejow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 wynalazcę kolei żelaznej uważa się Georga Stephensona, który skonstruował lokomotywę parow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:\Users\Bartek\Downloads\Rakieta_Stephensona_rysunek.jpg"/>
          <p:cNvPicPr/>
          <p:nvPr/>
        </p:nvPicPr>
        <p:blipFill>
          <a:blip r:embed="rId1"/>
          <a:stretch/>
        </p:blipFill>
        <p:spPr>
          <a:xfrm>
            <a:off x="4716360" y="2276640"/>
            <a:ext cx="4041720" cy="2823840"/>
          </a:xfrm>
          <a:prstGeom prst="rect">
            <a:avLst/>
          </a:prstGeom>
          <a:ln w="0">
            <a:noFill/>
          </a:ln>
        </p:spPr>
      </p:pic>
      <p:sp>
        <p:nvSpPr>
          <p:cNvPr id="122" name="pole tekstowe 7"/>
          <p:cNvSpPr/>
          <p:nvPr/>
        </p:nvSpPr>
        <p:spPr>
          <a:xfrm>
            <a:off x="4531680" y="5084640"/>
            <a:ext cx="4377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4. Rysunek „Rakiety” Stephenson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upload.wikimedia.org/wikipedia/commons/3/3f/Stephenson%27s_Rocket_drawing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nalazki techn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lfabet Morse’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muel F. Morse opracował pierwszy amerykański 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elegraf, który był oparty na  systemie kropek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kresek, zwanym alfabetem Morse’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C:\Users\Bartek\Downloads\Alfabet_Morsea.jpg"/>
          <p:cNvPicPr/>
          <p:nvPr/>
        </p:nvPicPr>
        <p:blipFill>
          <a:blip r:embed="rId1"/>
          <a:stretch/>
        </p:blipFill>
        <p:spPr>
          <a:xfrm>
            <a:off x="4788000" y="2205000"/>
            <a:ext cx="3024000" cy="3641760"/>
          </a:xfrm>
          <a:prstGeom prst="rect">
            <a:avLst/>
          </a:prstGeom>
          <a:ln w="0">
            <a:noFill/>
          </a:ln>
        </p:spPr>
      </p:pic>
      <p:sp>
        <p:nvSpPr>
          <p:cNvPr id="127" name="pole tekstowe 7"/>
          <p:cNvSpPr/>
          <p:nvPr/>
        </p:nvSpPr>
        <p:spPr>
          <a:xfrm>
            <a:off x="4684320" y="5805360"/>
            <a:ext cx="442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5. Alfabet Morse’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gadzetomania.pl/2010/12/22/wynalazki-xix-wieku-bez-ktorych-nie-byloby-gadzetomani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05T13:22:04Z</dcterms:modified>
  <cp:revision>156</cp:revision>
  <dc:subject/>
  <dc:title>Slajd 1</dc:title>
</cp:coreProperties>
</file>